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6502-3610-43D4-8461-6BC556BF0D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olume of a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Volume of the Solid. To 1 decimal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omework/Challe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allenge Qu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of a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ight we find the Volume of a Cylind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sion of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cm – 10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m – 100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km – 100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sions of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 mm x 10 m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100 mm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 cm x 100 c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 000 cm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0 mm x 1000 m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 000 000 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 m x 100 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 000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km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 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when cubic uni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cm x 1cm x 1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 mm × 10 mm × 10 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0 m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m x 1m x 1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 cm × 100 cm × 10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 000 000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- The volume of a three-dimensional figure is the amount of space within 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d in Units Cubed (e.g. cm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and capacity are relat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 is the amount of material (usually liquid) that a container can hol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 is measured in millilitres, litres and kilolit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 of Capa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Volume relate to Capaci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0 mL = 1 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0 L = 1 k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3 = 1 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000cm3 = 1000ml = 1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3 = 1000 L = 1 k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vert 1800 mL to 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800ml =  1800/1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= 1.8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.3 m3 to L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m3 = 1000L (1k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.3m3 = 2.3k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= 2300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Volum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olume of a three-dimensional figure is the amount of space within 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d in Units Cubed (e.g. cm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Capacity of this cu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= 5.53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5.53 x 5.53) x 5.5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69.11cm3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cm3 = 1m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 = 169.11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= 5.53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capacity of this rectangular pris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= Ah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26 x 12) x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12 × 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560 cm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cm3 = 1m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 = 1560 mL or 1.56 L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000mL = 1L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 11.08 – Q 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ize rainwater tank would be needed to hold the run-off when 40 mm of rain falls on a roof 12 m long and 3.6 m wide? (Answer in litres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of a Pr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of a Prism is calculated 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= Area of cross section x perpendicular he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= (4 x 4) x 4 = 64 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2 equal shapes at the base, but it is not a prism as it has rounded s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of a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ight we find the Volume of a Cylind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eces Miss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volume of concrete used to make this pi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of Concrete = Volume of Big Cylinder – Volume of Small Cylinder (ho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hape is present he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3D shapes can you se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D4E8-4FFF-4A06-A6BE-A8D844B08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1B8F-7BE4-43D7-A103-9AAD84DE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7F01-5D13-47D2-BFCC-AE0B4A311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5B11-89A5-4BB6-B6DD-73F0B2381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D432-398D-4A11-AA94-60EF826A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1FEF-E795-4710-84DA-883A66DC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0599-9469-4D6D-AA81-DCD6775D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C1C4-621B-4E13-873C-718051789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C4CC-3A8F-4FEE-81F0-54217995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200F-D444-4A75-BB6D-7A1806D4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0D52-AB5F-42BC-BD8A-34CA2FFE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7FDE-4F9C-4013-AB04-8C20BC9B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AA93-0249-4251-88B9-6705871122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Volume of a Cyli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HOM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1428840" y="5643720"/>
            <a:ext cx="72864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Arial"/>
              </a:rPr>
              <a:t>Find the Volume of the Solid. To 1 decima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2214720" y="2071800"/>
            <a:ext cx="47862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Homework/Challe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hallenge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3828960" y="3143160"/>
            <a:ext cx="53150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Volume of a Cyli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might we find the Volume of a Cylin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onversion of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cm – 10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m – 100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km – 1000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onversions of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4500720" y="4581360"/>
            <a:ext cx="4046400" cy="20545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1116000" y="1341360"/>
            <a:ext cx="6192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 cm2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 mm x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0 mm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100 mm2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 m2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0 cm x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00 cm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 000 cm2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 m2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00 mm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000 mm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 000 000 mm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 ha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0 m x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00 m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 000 m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 km2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0 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at about when cubic unit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980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 cm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cm x 1cm x 1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0 mm × 10 mm × 10 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000 mm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 m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m x 1m x 1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00 cm × 100 cm × 100 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 000 000 cm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4859280" y="4653000"/>
            <a:ext cx="36514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apa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50920" y="980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ume - The volume of a three-dimensional figure is the amount of space within i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easured in Units Cubed (e.g. cm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olume and capacity are relat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pacity is the amount of material (usually liquid) that a container can hol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pacity is measured in millilitres, litres and kilolit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2916360" y="4869000"/>
            <a:ext cx="360036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amples of Capa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1187280" y="2271600"/>
            <a:ext cx="6913800" cy="33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How does Volume relate to Capacit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71360" y="1213920"/>
            <a:ext cx="76150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1000 mL = 1 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1000 L = 1 k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1 cm</a:t>
            </a:r>
            <a:r>
              <a:rPr b="1" lang="en-AU" sz="3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 = 1 m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1,000cm</a:t>
            </a:r>
            <a:r>
              <a:rPr b="1" lang="en-AU" sz="3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 = 1000ml = 1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1 m</a:t>
            </a:r>
            <a:r>
              <a:rPr b="1" lang="en-AU" sz="3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 = 1000 L = 1 k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onvert 1800 mL to 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800ml =  1800/1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.8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2.3 m3 to L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m3 = 1000L (1k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2.3m3 = 2.3k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2300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5364000" y="2205000"/>
            <a:ext cx="22957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at is Volum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volume of a three-dimensional figure is the amount of space within i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easured in Units Cubed (e.g. cm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apa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ind the Capacity of this cu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Length = 5.53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(5.53 x 5.53) x 5.5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69.11cm3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(1cm3 = 1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pacity = 169.11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6732720" y="549360"/>
            <a:ext cx="1887480" cy="14000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6516720" y="1825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ength = 5.5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ind the capacity of this rectangular pris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olume = </a:t>
            </a: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Ah </a:t>
            </a: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(26 x 12) x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312 × 5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560 cm3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(1cm3 = 1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pacity = 1560 mL or 1.56 L 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(1000mL = 1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5781600" y="0"/>
            <a:ext cx="33624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 11.08 – Q 7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799308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size rainwater tank would be needed to hold the run-off when 40 mm of rain falls on a roof 12 m long and 3.6 m wide? (Answer in litres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Volume of a Pr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400" spc="-1" strike="noStrike">
                <a:solidFill>
                  <a:srgbClr val="000000"/>
                </a:solidFill>
                <a:latin typeface="Calibri"/>
              </a:rPr>
              <a:t>Volume of a Prism is calculated by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olume = Area of cross section x perpendicular he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 = (4 x 4) x 4 = 64 m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5643720" y="3714840"/>
            <a:ext cx="28288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t has 2 equal shapes at the base, but it is not a prism as it has rounded s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It is a Cyli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5929200" y="3357720"/>
            <a:ext cx="25527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Volume of a Cyli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might we find the Volume of a Cylin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429160" y="3071880"/>
            <a:ext cx="332892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ieces Mis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ind the volume of concrete used to make this pi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olume of Concrete = Volume of Big Cylinder – Volume of Small Cylinder (ho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5364000" y="3500280"/>
            <a:ext cx="32544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shape is present he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4700520" y="3714840"/>
            <a:ext cx="4443480" cy="278604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4643280" y="3714840"/>
            <a:ext cx="6429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9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3D shapes can you se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5214960" y="3429000"/>
            <a:ext cx="3767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7:35:10Z</dcterms:created>
  <dc:creator>Corporate Edition</dc:creator>
  <dc:description/>
  <dc:language>en-US</dc:language>
  <cp:lastModifiedBy>RomaK</cp:lastModifiedBy>
  <dcterms:modified xsi:type="dcterms:W3CDTF">2015-09-04T09:23:43Z</dcterms:modified>
  <cp:revision>53</cp:revision>
  <dc:subject/>
  <dc:title>Slide 1</dc:title>
</cp:coreProperties>
</file>